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C3F9-8581-48FB-A4FC-D21F9DA3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653-C1DE-41F1-92E2-18A1FB2B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797-FA6A-4188-9CA9-D0E00EF5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B2F-FB93-460C-8347-1CBD3052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FF1E-6DE7-46D8-ACCF-FF5FC778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B71-98C0-4A36-B3FD-5511D697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183-D7CC-4247-8E2A-AEA283DB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261-6C04-4398-B6CE-41448255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89A-9950-4867-835C-A425B034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8CAF-0C95-4770-A3FD-31E00FCC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AF6-E574-4493-BA49-20C72489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59B-D5CE-4CCC-A4D4-B04C999D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846D-0E8C-40B8-BC13-8C7C911A5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" Target="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you s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6" descr="colorblind1_bw.jpg"/>
          <p:cNvPicPr/>
          <p:nvPr/>
        </p:nvPicPr>
        <p:blipFill>
          <a:blip r:embed="rId1"/>
          <a:stretch/>
        </p:blipFill>
        <p:spPr>
          <a:xfrm>
            <a:off x="4419720" y="1905120"/>
            <a:ext cx="3962160" cy="3657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d.umn.edu/cla/faculty/troufs/anth4616/images/colorblind1.jpg"/>
          <p:cNvPicPr/>
          <p:nvPr/>
        </p:nvPicPr>
        <p:blipFill>
          <a:blip r:embed="rId2"/>
          <a:stretch/>
        </p:blipFill>
        <p:spPr>
          <a:xfrm>
            <a:off x="304920" y="190512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793800" y="5715000"/>
            <a:ext cx="77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blindness is an example of a sex-linked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womancarrier.jpg"/>
          <p:cNvPicPr/>
          <p:nvPr/>
        </p:nvPicPr>
        <p:blipFill>
          <a:blip r:embed="rId1"/>
          <a:stretch/>
        </p:blipFill>
        <p:spPr>
          <a:xfrm>
            <a:off x="457200" y="3962520"/>
            <a:ext cx="2666880" cy="2286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3200040" y="533160"/>
            <a:ext cx="56386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 = hemophilia, a sex-linked dis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, can you answe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dad aff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mom aff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hildren have the disea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hildren are carri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hildren are healthy? (careful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members.tripod.com/~dnascienceandtech/malehemo.jpg"/>
          <p:cNvPicPr/>
          <p:nvPr/>
        </p:nvPicPr>
        <p:blipFill>
          <a:blip r:embed="rId2"/>
          <a:stretch/>
        </p:blipFill>
        <p:spPr>
          <a:xfrm>
            <a:off x="533520" y="68580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DIGREE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other way to study inherit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6" descr="xlinked.gif"/>
          <p:cNvPicPr/>
          <p:nvPr/>
        </p:nvPicPr>
        <p:blipFill>
          <a:blip r:embed="rId1"/>
          <a:stretch/>
        </p:blipFill>
        <p:spPr>
          <a:xfrm>
            <a:off x="457200" y="2371680"/>
            <a:ext cx="4038480" cy="2982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you think the F1 generation (line II) # 2 and #5 offspring repres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draw the Punnett Square for the Parent generation? (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9"/>
          <p:cNvSpPr/>
          <p:nvPr/>
        </p:nvSpPr>
        <p:spPr>
          <a:xfrm>
            <a:off x="1371600" y="35053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0"/>
          <p:cNvSpPr/>
          <p:nvPr/>
        </p:nvSpPr>
        <p:spPr>
          <a:xfrm>
            <a:off x="3733920" y="35053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read a pedigre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6" descr="pedigree key.gif"/>
          <p:cNvPicPr/>
          <p:nvPr/>
        </p:nvPicPr>
        <p:blipFill>
          <a:blip r:embed="rId1"/>
          <a:stretch/>
        </p:blipFill>
        <p:spPr>
          <a:xfrm>
            <a:off x="838080" y="1371600"/>
            <a:ext cx="7620120" cy="4952880"/>
          </a:xfrm>
          <a:prstGeom prst="rect">
            <a:avLst/>
          </a:prstGeom>
          <a:ln w="0">
            <a:noFill/>
          </a:ln>
        </p:spPr>
      </p:pic>
      <p:sp>
        <p:nvSpPr>
          <p:cNvPr id="79" name="TextBox 7"/>
          <p:cNvSpPr/>
          <p:nvPr/>
        </p:nvSpPr>
        <p:spPr>
          <a:xfrm>
            <a:off x="5334120" y="533412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rier fe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rier 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5562720" y="5410080"/>
            <a:ext cx="7596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5410080" y="5257800"/>
            <a:ext cx="30492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 flipH="1">
            <a:off x="5562000" y="6019920"/>
            <a:ext cx="7596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5410080" y="5943600"/>
            <a:ext cx="38124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digre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 how traits are passed down through many gen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mostly on pheno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 the actual offsp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nnett squares show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ossib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sp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ly only works well for single tra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polygenic tra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works for inherited tra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vironmental factors play a large role in who we 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heriting Disea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 like physical traits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iseases can be inherited on our chromosom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, just like physical traits, some are X-linked, some are recessive, some are dominant or codomin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tic Disorder Project top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gile x syndr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ucher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schene Muscular Dystro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fan syndr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or blind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rler syndr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y-Sach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binis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ystic Fibro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ckle cell anem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K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u Gehrig’s dise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i du Chat syndr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untington Dise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urner’s syndr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linefelter syndr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wn syndr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anconi anem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C:\Users\jolill\AppData\Local\Microsoft\Windows\Temporary Internet Files\Content.IE5\ZIHHMIK6\MPj04330500000[1].jpg"/>
          <p:cNvPicPr/>
          <p:nvPr/>
        </p:nvPicPr>
        <p:blipFill>
          <a:blip r:embed="rId1"/>
          <a:stretch/>
        </p:blipFill>
        <p:spPr>
          <a:xfrm>
            <a:off x="533520" y="3962520"/>
            <a:ext cx="2819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Chromosomal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X-Inactivation </a:t>
            </a:r>
            <a:r>
              <a:rPr b="1" lang="en-US" sz="3200" spc="-1" strike="noStrike">
                <a:solidFill>
                  <a:srgbClr val="953735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f men only need one X chromosome, do women need both X’s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not, which one “works”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Non-disjunction  </a:t>
            </a:r>
            <a:r>
              <a:rPr b="1" lang="en-US" sz="3200" spc="-1" strike="noStrike">
                <a:solidFill>
                  <a:srgbClr val="953735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ow gametes can end up with the wrong # of chromosomes in mei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-Chromosome Inac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600" y="1371240"/>
            <a:ext cx="8610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 are XY: One X chromosome is en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men are XX:  The “extra” copy is not needed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ndenses into a “Barr body.”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, you have trillions of cells.  Which X chromosome that “switches off” can vary in each cel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barr.gif"/>
          <p:cNvPicPr/>
          <p:nvPr/>
        </p:nvPicPr>
        <p:blipFill>
          <a:blip r:embed="rId1"/>
          <a:stretch/>
        </p:blipFill>
        <p:spPr>
          <a:xfrm>
            <a:off x="4114800" y="4114800"/>
            <a:ext cx="38955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aicis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3" descr="cat barr.jpg"/>
          <p:cNvPicPr/>
          <p:nvPr/>
        </p:nvPicPr>
        <p:blipFill>
          <a:blip r:embed="rId1"/>
          <a:stretch/>
        </p:blipFill>
        <p:spPr>
          <a:xfrm>
            <a:off x="533520" y="1219320"/>
            <a:ext cx="8001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886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disj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371240"/>
            <a:ext cx="4114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coming apart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mologous chromosomes fail to separate in meio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ult in Trisomy or Monosom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linefelter syndrome (trisomy X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wn syndrome (trisomy 2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ers syndrome (X_ monosom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4" descr="nondisjunction.jpg"/>
          <p:cNvPicPr/>
          <p:nvPr/>
        </p:nvPicPr>
        <p:blipFill>
          <a:blip r:embed="rId1"/>
          <a:stretch/>
        </p:blipFill>
        <p:spPr>
          <a:xfrm>
            <a:off x="4343400" y="228600"/>
            <a:ext cx="4572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8840" y="685440"/>
            <a:ext cx="3809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Human Ge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257440" y="2895120"/>
            <a:ext cx="3352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Chapter 14-1, 14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Human Here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ww.scq.ubc.ca/wp-content/uploads/2006/08/molecular-machine.gif"/>
          <p:cNvPicPr/>
          <p:nvPr/>
        </p:nvPicPr>
        <p:blipFill>
          <a:blip r:embed="rId1"/>
          <a:stretch/>
        </p:blipFill>
        <p:spPr>
          <a:xfrm>
            <a:off x="380880" y="444600"/>
            <a:ext cx="487692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056760" y="19828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dis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back-arrow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109" name="Chapter 14B.mpg" descr=""/>
          <p:cNvPicPr/>
          <p:nvPr/>
        </p:nvPicPr>
        <p:blipFill>
          <a:blip r:embed="rId5"/>
          <a:stretch/>
        </p:blipFill>
        <p:spPr>
          <a:xfrm>
            <a:off x="590400" y="461880"/>
            <a:ext cx="8020080" cy="6015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uman Gen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GGGTCGCGTATCGTAGCTGATGGGGGTAGTATTTTATATGCTGGTAGACAAAACGGTGTACTGCCGTCGTCGTAGTGATGTGCGGCGCCAAAAATTATACTGTGACTGATCGTAGTGTAAAAAAAAAAGTCGTGCTGCTTTTTTCGATCGCGCGTAGTAGCTACGCCGCGGTTCGCGCGTAAGAGACTGATGCGACTGATATATATACGCGCTAGCATATATCTCTCGATCTGATCGTAGATGCTTAAGTTACTAGCTGTCGTATACGTAGTTAGTCGGGTGATGATGCTGTATATATCGCGCTCTATATGCTAGCTAGTGTTGTAGCTAGCTGATTCCCTCGAAGTCTCGTGAATAATCGCGCTTTCGGGGGCTCTCT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NA Bank and Alzheimer's Research. Illustration of DNA by L. Kubiak, NIH."/>
          <p:cNvPicPr/>
          <p:nvPr/>
        </p:nvPicPr>
        <p:blipFill>
          <a:blip r:embed="rId1"/>
          <a:stretch/>
        </p:blipFill>
        <p:spPr>
          <a:xfrm>
            <a:off x="304920" y="304920"/>
            <a:ext cx="4114800" cy="617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an Gen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billion 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billion individual b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million pag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s (letters) spell out genes (words) that result in the phenotype (the sto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spell out bad stories (disea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:\Users\jolill\AppData\Local\Microsoft\Windows\Temporary Internet Files\Content.IE5\7CPA9WEO\MCj04326450000[1].png"/>
          <p:cNvPicPr/>
          <p:nvPr/>
        </p:nvPicPr>
        <p:blipFill>
          <a:blip r:embed="rId2"/>
          <a:stretch/>
        </p:blipFill>
        <p:spPr>
          <a:xfrm>
            <a:off x="7810560" y="53352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62120" y="152280"/>
          <a:ext cx="7772400" cy="650736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2606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Ge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9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6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6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6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6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02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omosom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 million 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" name="Rectangle 1"/>
          <p:cNvSpPr/>
          <p:nvPr/>
        </p:nvSpPr>
        <p:spPr>
          <a:xfrm>
            <a:off x="1694880" y="-138240"/>
            <a:ext cx="5753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hromosome size source: International Human Genome Sequencing Consortium. Initial sequencing and analysis of the human genome. 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409:860-921(2001).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ene count source: Wellcome Trust. Unveiling your genome. 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Wellcome News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Supplement Q1:13-23(2001)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x_chromoso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mans have 22 pairs of AUTOSOME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is the 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air different?  What is it called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is picture called?  When was this cell photographed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this a man or a woman?  How do you know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Human female karyotype"/>
          <p:cNvPicPr/>
          <p:nvPr/>
        </p:nvPicPr>
        <p:blipFill>
          <a:blip r:embed="rId1"/>
          <a:stretch/>
        </p:blipFill>
        <p:spPr>
          <a:xfrm>
            <a:off x="533520" y="2286000"/>
            <a:ext cx="8001000" cy="419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he “2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 pair are the sex 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This picture is a karyo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t was taken during mitosis (likely metapha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It is a 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has one X chromosome (larger) and one Y chromosome (smal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you s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6" descr="colorblind1_bw.jpg"/>
          <p:cNvPicPr/>
          <p:nvPr/>
        </p:nvPicPr>
        <p:blipFill>
          <a:blip r:embed="rId1"/>
          <a:stretch/>
        </p:blipFill>
        <p:spPr>
          <a:xfrm>
            <a:off x="4419720" y="1905120"/>
            <a:ext cx="3962160" cy="365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www.d.umn.edu/cla/faculty/troufs/anth4616/images/colorblind1.jpg"/>
          <p:cNvPicPr/>
          <p:nvPr/>
        </p:nvPicPr>
        <p:blipFill>
          <a:blip r:embed="rId2"/>
          <a:stretch/>
        </p:blipFill>
        <p:spPr>
          <a:xfrm>
            <a:off x="304920" y="190512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793800" y="5715000"/>
            <a:ext cx="77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blindness is an example of a sex-linked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20:58:52Z</dcterms:created>
  <dc:creator>Joanne Lilliendahl</dc:creator>
  <dc:description/>
  <dc:language>en-US</dc:language>
  <cp:lastModifiedBy>James P. Lilliendahl</cp:lastModifiedBy>
  <dcterms:modified xsi:type="dcterms:W3CDTF">2008-04-24T02:57:05Z</dcterms:modified>
  <cp:revision>36</cp:revision>
  <dc:subject/>
  <dc:title>Human Genetics</dc:title>
</cp:coreProperties>
</file>